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A7A5-886D-4F4E-A31D-A623B0E90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0B5C-877E-48D4-8700-AA0E55B0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D5EF-18F2-4952-AF13-75FDC1986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3331-D0B7-4ADF-BE80-7EBA6659E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0A40-8DB0-4F9F-BC78-0A5CD38C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CDCB-9163-477F-A95C-DE0F75E3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51B9-329E-4E47-9E83-81A2BF2E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28E3-62E4-45D9-B3B6-051950C8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707B-A164-44EA-927B-831D77A4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4B0D-9689-49F8-8A7F-DB4A58A3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48F7-3AC3-42F3-86AE-5122BCCA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350C-8096-425A-962B-2221AD3D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DF07-6A6E-470A-A55F-45F8DF223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08000" y="1824120"/>
            <a:ext cx="4583160" cy="32781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>
            <a:lum contrast="6000"/>
          </a:blip>
          <a:srcRect l="0" t="0" r="2143" b="0"/>
          <a:stretch/>
        </p:blipFill>
        <p:spPr>
          <a:xfrm>
            <a:off x="4475160" y="1812960"/>
            <a:ext cx="4572000" cy="3344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rob. To get a </a:t>
            </a:r>
            <a:r>
              <a:rPr b="0" lang="fr-FR" sz="4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trig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rob. To get a </a:t>
            </a:r>
            <a:r>
              <a:rPr b="0" lang="fr-FR" sz="4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trig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2759" t="0" r="4128" b="0"/>
          <a:stretch/>
        </p:blipFill>
        <p:spPr>
          <a:xfrm>
            <a:off x="106200" y="1773360"/>
            <a:ext cx="4321440" cy="3198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0" t="3131" r="0" b="0"/>
          <a:stretch/>
        </p:blipFill>
        <p:spPr>
          <a:xfrm>
            <a:off x="4427640" y="1782720"/>
            <a:ext cx="452124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11:48:27Z</dcterms:created>
  <dc:creator>J.E Campagne</dc:creator>
  <dc:description/>
  <dc:language>en-US</dc:language>
  <cp:lastModifiedBy>J.E Campagne</cp:lastModifiedBy>
  <dcterms:modified xsi:type="dcterms:W3CDTF">2005-07-06T14:59:41Z</dcterms:modified>
  <cp:revision>2</cp:revision>
  <dc:subject/>
  <dc:title>Prob. To get a m trigger</dc:title>
</cp:coreProperties>
</file>